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309-1930-46C3-AF3E-A7E8DE70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80E9-7A97-46C3-A14D-1D8A5E3E4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D1BF-A1FF-4C9F-AF9C-4FD82919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890-2F5E-4570-97D1-54673D7E2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207F-44DA-4590-AAC7-15AF4AFA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6A13-755E-4325-B2DD-5A4EF990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2AF-8F60-4516-A916-E5295A7CE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FF7D-2883-45B2-88FF-317C8F005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3F15-BB74-4BDC-B7EB-4DCACE912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B6BE-1E5D-4361-A917-0845AF117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AD34-829E-44E7-9021-8523C32C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EE97-530E-4FCA-B8E3-6137FC4B9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764-40F0-41BD-B15A-813F5BAD0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B7DD-3829-4C90-96E6-41C937332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1A97-5EB0-4754-826C-E35285B58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AA91-46CE-485C-BA74-E57B82055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11FC-BF9D-4019-A961-23DA93B8D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94C-58DB-4959-A48F-19406E011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77D-BB2F-45FA-BE1C-D2335198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2213-6A26-42B2-85F0-F19BFDDF5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6346-10D8-4AAC-9431-FF75A753A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272A-EA7A-4223-B019-3F043EBD2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BC0E-D533-4D08-9B13-9CC376E1E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7273-13DE-404F-8806-AD822B298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360D-9C61-4356-9038-08C6AC8C2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98CA-A079-4D27-BD99-0864F42F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B85C-E3DF-4B60-80BA-B6EC7035C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F877-5998-46EB-A6E7-8F3F646ED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6E82-83F0-4336-8CF1-8F2089290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B877-AD72-4C44-A878-15413090B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6A88-18DB-45CD-9517-6539D64A0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D118-915F-4FC3-8B2C-63F99F641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3D21-7D5F-400A-938A-888F960A6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704F-BF53-4FB4-931F-875F2B9D5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A61B-9FA6-4FBD-A87C-1985BD04D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4CCA-4E3A-4502-80B9-96675D49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BFF8-DBA8-4138-B02A-A2D33D7FB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58F9-7306-479D-A688-6ADAF1506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AB82-5F61-4E71-9889-9B825261A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FC6E-BFD4-4195-85D9-C5F62F6C0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754-2492-47B1-B731-250319223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5A26-2F3B-4B25-8CC6-6B0F05AD6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3B79-66A1-4CA6-8E7A-4D512B1C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435F-2385-4969-83F3-A9EA12B08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D0B8-D1BB-468B-8DE0-F74E0D73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1098-D16A-4F55-A3F2-82B298AF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2AF7-A73F-4F3C-AEE0-05B426BD3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2639-DF19-4AAB-9783-0B05D3DD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0424-663C-4276-B058-088AA52E2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6FD0-BB1D-4E15-9F64-B36CFA3F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E2A7-137D-4B5E-9E1B-1C1980736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02EB-C45A-406E-B192-F6F1D8B7D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A12-54E0-4ABB-9348-85ECEC2C6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2EA-E005-4FDD-BCA1-693D5EBD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756E-2CC2-4EFA-AD39-E8108CA49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113-32DA-42A6-A3AD-A4AB39B5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9A9-7535-479A-9129-D2F65542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EFE1-7FB6-49BB-A97B-F774911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0D1-30C4-425B-A16B-6AF94B08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710-F25E-4BDD-8F08-A3AA46A1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CF9-86D6-4365-8250-6FDAECAE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9AB4-BB0C-41EF-8238-0C26D2A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B5D-E8E2-497C-89EC-2A40DA3E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18D-06FD-4B23-8C34-87945F33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2154-EB9F-4272-A577-1A1B4A3A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light does not reach this deep water and animals eat dead plants that sink from ab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The Deep S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ecosystem has many other animals besides fish that live on 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i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Biome cleans the water with it’s soil, plants and other tiny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Wet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al Reefs has two specific characteristics, what are they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hallow warm waters that have sunlight that penetrates th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a place where river water runs into the ocean. Who am I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stu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every organism need to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pace, air,water, light, food, and 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and cattle egret have a symbiotic relationship wh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rganism is helped and the other is not affecte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icroorganisms inside a buffalo’s intestines feed off of the buffalo’s digestive system, both organisms are……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oth organisms are help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parasite inside a buffalo starts to weaken the buffalo or make it sick, one organism is __________ and one is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ne organism is helped and one is hu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symbiosis has lichen’s fungus and bacteria depending on each other to 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at waste or dead organism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decompos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not make our own food, but all animals are us; what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ake our own food for energy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with the parasite inside of it’s body, with the parasite weakening it is called     _ _ _ 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moves through an ecosystem three different ways, which are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ood chains, energy chains, or food web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4T17:34:09Z</dcterms:modified>
  <cp:revision>59</cp:revision>
  <dc:subject/>
  <dc:title>No Slide Title</dc:title>
</cp:coreProperties>
</file>